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9BB0-F381-44D1-B461-549576A6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1D0F-C848-4FD4-89F7-ADE2F138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AE86-14A6-4E71-AF63-F80BF316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4810-23E7-488D-8B5D-235A41D3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7BC1-7519-4A70-AC5F-5689F9CD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98AB-5328-4BCF-91A3-23193A3B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8D5-1566-4BD7-9532-A7B62F86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2ED-F566-4749-ACFC-6847A1A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D772-6A5B-43A2-86BD-FAA28A6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DFA-0902-4A8D-936A-9B161A0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F98-CAD0-4766-8FAE-451DA36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2535-CEB7-42E5-8402-A93C40C1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C7FE-6E71-467E-869F-0EB1633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BEC-D72F-4988-979C-7299F605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1A0-6254-428E-8765-CDAECF1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3815-7D7C-48AE-B755-234C768A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9EA9-1144-46F9-8FC9-D4207CA9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DFEB-0903-4BBF-8679-B1D22C9C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802F-0465-4B4B-9BE9-CA04EFE0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8181-2ECC-478D-98FB-AD2E23B9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7DDD-27DC-45E8-8DDB-CE8BD64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CB16-BD3A-4EA3-8266-680EE81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CB46-F524-4F26-8759-8C2E406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C370-4541-4AC0-9462-78F079B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ADE-21B1-4486-A5F7-74D0D1CAC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B47C-D9D4-4007-8292-6DB930EC41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ersuasiv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ssay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d/or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Speec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ing/Spe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uences a reader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an Id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 a Point of 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an 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uasive Writers/Speak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y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ong, Relevant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g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ong Feelings or Emo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Your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want to accomp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 Your Central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that “Asserts” somet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clear your main purp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ten begins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dentify Supporting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the ques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evidence do I have that…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answers to your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3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2 pieces of evidence to support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ffirm Your Clai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lude your argu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reaffirming your cla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action you want them to ta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ate the Main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with the Strongest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rem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rmp</cp:lastModifiedBy>
  <dcterms:modified xsi:type="dcterms:W3CDTF">2009-02-04T17:46:3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