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339C-BC76-4645-92FF-0383AC35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1A8F-9861-470A-80A3-2A283F32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F2A7-2176-432B-AE25-6ED3FD72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B2FC-B486-41BD-8A5E-3F5044D2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825-2BB6-4513-B041-D12CAAF7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FA01-A590-4905-88F4-9D3A662B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350-B514-404F-A761-896F4F2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C465-9AC7-4360-ABDE-A952DECD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FFEB-03BD-4EBB-810B-0279C761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3C69-BF89-4920-9FAF-19077D0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7731-31C3-4ADF-A52C-A4FCBDB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158B-18AB-43A3-BDDA-1A19CB51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04C-4CDE-43AA-9164-A164F337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9F67-46C6-424A-AE0C-E0F965F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6267-6B4B-426F-A254-6AA4465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76D-2055-41D3-9B3F-6579E530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C96-EA22-48C5-BA17-1363F052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5655-FFF8-4CE6-9C52-AAC617F9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AF15-6940-4727-9E3A-DFEEEC1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B620-9EBA-491E-ACEF-4D585C1D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7372-B651-43FF-A79B-462BD5E1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2451-E662-45C5-AE20-AD5B83B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6EDD-3D6D-4E25-872A-3A42B1A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4518-5D67-4DDD-BECC-7BF8C6E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762-44C2-4B6D-8BB2-342744954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566-E7EF-4FA4-AE0D-2E19475626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ersuasiv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ssay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d/or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Spee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ing/Spe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uences a reader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an Id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 a Point of 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an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ers/Speak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y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ong, Relevant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g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ong Feelings or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Your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want to accomp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 Your Central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tatement that “Asserts”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clear your main purp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begins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Supporting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the ques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evidence do I have that…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answers to your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3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2 pieces of evidence to support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ffirm Your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de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reaffirming your cla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te the action you want them to ta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ate the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with the Strongest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want them to rem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rmp</cp:lastModifiedBy>
  <dcterms:modified xsi:type="dcterms:W3CDTF">2009-02-04T17:46:3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