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61D22-101F-4A3B-A1DF-5FA5F91F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4CF0E-9F46-4DD2-A37F-A554629E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FDF67-D49A-4FE4-A6C4-AA9409F3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89F4B-A56C-474F-A0B4-5F367342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F6D2-DE06-4E6E-AE09-56F7D17E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62AA-78F0-4250-AA65-42AB65EA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708F-7DB5-4097-985D-4C915558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6E7A-2EA2-4942-A975-A7D88603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8E2C-D3F9-41FF-AE53-2E6FDC35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B85A-4DE4-4980-9ACA-407C6B8B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1196-CF41-4DE8-86F6-30EF28AD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C8AB8-50A7-43C5-8CAE-0CB05AC9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DAAA-9298-40D0-8356-4F368DEB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C638-13B9-4BBB-9895-6398EBEC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93BA-C3C1-4226-8493-9D206B6D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A868-EE6D-4FD7-9EA8-71CB91D7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8414-C79A-429A-944F-C49D3E47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A4493-0D6B-452F-BF4B-D1C87C64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FC8ED-790E-4586-883A-F142CB62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12474-D994-40C7-82A9-DD50DC3D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15542-29E5-49D7-BEE8-52C75F66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D8A40-58D3-4F46-824F-F23799B0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0ACC5-6EFC-4F90-AD9B-313BD7BE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4EF88-B5F1-42B0-8CE3-70282B84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E546-E63B-4AE7-96EB-F121269C3E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3993-0181-4561-9735-23F42F5D4C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ersuasive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ssay 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nd/or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 Speech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uasive Writing/Speak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luences a reader 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ept an Id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opt a Point of Vie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form an A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uasive Writers/Speak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y 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rong, Relevant Evid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g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rong Feelings or Emo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dentify Your Purpo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do you want to accomplish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te Your Central Clai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tatement that “Asserts” someth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s clear your main purp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ften begins your argu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dentify Supporting Evid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k the ques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evidence do I have that…?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ok for answers to your ques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3 main po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ve 2 pieces of evidence to support ea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affirm Your Clai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clude your argu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y reaffirming your clai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ate the action you want them to tak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tate the Main Po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ish with the Strongest Poi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ou want them to remem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ormp</cp:lastModifiedBy>
  <dcterms:modified xsi:type="dcterms:W3CDTF">2009-02-04T17:46:3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