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E86E-A6DD-4AE6-BBA2-F0752178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262B-98DB-4EDB-8590-B507CFBE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9F8E-8C08-4DE9-A540-8FA2808F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179D-BB86-4423-86B6-74D5F27F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DA72-3AD3-4F94-8B51-696E181C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07F9-E815-4F5B-94CB-006E1E1E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D34-399C-41E7-A623-6EAB298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77D-61BE-4BFC-B195-0D0CD4D8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970B-EDD4-4CF4-832A-9B2056A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885-8D88-4F1F-8A6C-FE2F029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330-9219-4E46-857E-5F7704C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E5D7-DB73-4B81-975D-BE7D6C52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804-F49C-471A-81E8-18F4748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05B-21DE-4F3C-82F7-C5CB2E1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BCA3-06DF-4C63-888F-A1001C5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F3E4-BF58-484C-AFBD-D53098F3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AA63-F3A8-4669-8B15-E45830DA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4207-C4C8-43EA-8D3F-49DD4F9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1614-4A1A-4935-8BE9-2A7C88A0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9543-DA81-4A33-A7CB-7286322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A8B6-FF74-4FBD-8D3A-665052BE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26A5-FD91-4E08-BF84-6531384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FB08-0665-469C-8F8E-0C9B57D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0D9F-DAFC-4868-96C8-8F329C6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5279-CC5D-489D-A2FC-F39CE71B48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B66F-D8E0-4F10-8059-C84D54C3AC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ersuasiv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ssay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d/or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pee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ing/Spe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uences a reader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an Id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 a Point of 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an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ers/Speak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y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ong, Relevant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ong Feelings or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Your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want to accomp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 Your Central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that “Asserts”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clear your main purp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begins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Supporting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the 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evidence do I have that…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answers to your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3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2 pieces of evidence to support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ffirm Your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de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reaffirming your cla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action you want them to ta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ate the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with the Strongest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rem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rmp</cp:lastModifiedBy>
  <dcterms:modified xsi:type="dcterms:W3CDTF">2009-02-04T17:46:3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