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320C7-FC0D-4E58-A5B0-CA187A36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09BAF-C893-436E-BF6F-F605DC26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1E86C-56B1-46A0-8B27-A7184C69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C09B7-E70E-4D3B-82F9-666A7534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0923-C414-4FC5-BB6C-92D23F52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2E4C-702D-46F3-B00E-40EF2772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6482-EDF1-465D-8C89-1D5C6221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1203-EB60-4CA1-A21E-A36507AC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7485-DB9F-4D7D-9F9A-1F9C2177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8D2A-D034-408E-B343-8D70789A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F5E1-15CF-46E5-B645-4D97C9F0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8B1D8-4FC3-4B4C-BAA1-E759B761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5C5E-3135-44C2-8987-4DF87A00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30B6-E8AB-4837-98F5-EEA89E1F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1D1A-DD85-49B1-A51E-27F4A9AA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8C2C-868B-4930-92AE-35F64828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F37C-5AC9-416B-B85B-1BE5CB4A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0490-13E3-415B-8761-88362C76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2ED80-6BD2-40C8-9F95-84E7EFE8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7BCA-97C6-43C8-86C9-EC8919A2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7ECE3-2209-441F-B07E-4AEC0FE4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1B7CE-4A35-463E-8707-8FF30922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5791-96CD-45EF-A1F1-B3B9D59A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6CB9-5268-4E7C-B6E6-2A114E34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02BC-7B80-4C29-81EC-F9C336AA76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AEB2-76A2-4AEB-A5E3-F00B48262A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ersuasive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ssay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d/or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Speec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uasive Writing/Spe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uences a reader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ept an Id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 a Point of Vie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form an 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uasive Writers/Speak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y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ong, Relevant Evid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g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rong Feelings or Emo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Your Purpo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you want to accomplish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 Your Central Cla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tatement that “Asserts” somet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s clear your main purp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ten begins your argu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Supporting Evid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 the ques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evidence do I have that…?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answers to your ques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3 main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e 2 pieces of evidence to support ea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affirm Your Cla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lude your argu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y reaffirming your clai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ate the action you want them to ta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ate the Main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ish with the Strongest 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 want them to rem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ormp</cp:lastModifiedBy>
  <dcterms:modified xsi:type="dcterms:W3CDTF">2009-02-04T17:46:3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