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2E48-A96C-45CB-BCF5-3CB4AD23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0B49-C47F-42FA-B1F6-DF617C98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1E8F-5B8C-4C5C-87F9-73A862C6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B7D3-B843-47CC-ACB5-B83A4FAE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F31C-590B-44E9-BC4C-23380549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B2AB-202F-4007-B4FF-F0F3E710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9FC4-815A-4575-A598-EFA6516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4E7C-962D-41FE-B019-E45C19CA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EBED-7B8C-444B-B1B4-EAE4DA08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B282-49D3-4FE7-8AFB-69336186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4FF9-FA88-49F3-A47E-5F00174E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7A2F-47BF-4519-8D99-5927D2B3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FF2D-5CC6-45E6-A406-EA040140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813F-BAD7-4572-ADBC-60D0C48F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68F5-2C4E-4FE2-BC98-12465AE4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1503-5419-4D05-933C-C3C4411C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92A9-2B75-4238-A867-4FB4A91F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196E-DACA-41E4-9C40-3D282A66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DB90-35A3-4F51-84D8-AF27B92D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49D3-CB2E-47FE-97AE-7C70805C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98A9-9693-488C-B9F9-B536BFC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A694-3EE6-41B3-A404-1267DF1E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D6D4-C3ED-4EA4-8120-66873878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23E8-3610-40F7-B2B8-53C2CA1E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D3C1-2A42-43B2-BF64-E54DB2939D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808E-3144-45A3-9771-90E660DEF7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ersuasive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ssay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d/or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Spee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ing/Spe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uences a reader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an Id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 a Point of Vi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an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ers/Speak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y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ong, Relevant Evid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g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ong Feelings or Emo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Your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want to accomplis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 Your Central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tatement that “Asserts” somet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s clear your main purp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ten begins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Supporting Evid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the ques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evidence do I have that…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answers to your qu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3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2 pieces of evidence to support e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affirm Your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lude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reaffirming your clai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te the action you want them to ta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ate the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ish with the Strongest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want them to rem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ormp</cp:lastModifiedBy>
  <dcterms:modified xsi:type="dcterms:W3CDTF">2009-02-04T17:46:3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